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301-153E-403D-83EE-0B17AA90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7AD-922C-4D7D-ADB3-F96B180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1D0-7158-45E2-9B87-1F4B02F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560-D048-41CD-B832-B7AAE4EB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C6C3-28F0-415C-9882-BD774760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C48-E40C-4641-A828-D2401CEB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92B5-046C-45E3-881A-FECE1D3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DE0F-6188-4C81-9570-817A252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82C2-8FD6-452D-B777-7F74D1D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856D-5487-4C68-B7B9-0FEEF7B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2A8B-5BFA-4A9B-AAAE-8BD9948D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070-2732-4FE9-954E-0E67F40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9827-2A03-4606-97BB-ACD5B79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A2FF-5A12-4C4D-86A3-95CF44B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177C-BE7E-4D85-94DA-BB455AB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0CE-918A-475D-87D5-B6C0AA98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9AE2-F9CF-46B0-BEDF-41D55408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72836-CA68-479A-BA31-AA26C434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83779-27C2-4F6B-BDDA-DE23D18B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EB47A-B3E8-483F-A4C9-916AB6C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B0183-2260-40B1-9AAB-666B4E4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C5AE3-FB07-4211-A010-7586456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B3D-5ED1-44F4-91BF-CF511A3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3351D-D105-4DA0-82EF-404A6186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A34F3-E4BC-4849-8307-ACC8D907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AAD0F-AB5D-4F34-8C5A-E57314D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577F2-06D0-4610-8128-9604560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628E3-3FCD-487C-9667-FBC3CCD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B91F5-C021-4A88-B667-CC5D45AC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FBADC-3273-41F5-ABB3-5532246E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4FC3-90A1-4B03-ADD0-E5EB9768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A697-17A6-4316-AD34-2B64CE08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5A4F-259A-4E07-9366-6FAF9E2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96E-488E-417E-ABAC-997B881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2EA9-A42E-4624-8ED8-FEACB408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CAA2-4694-4B67-BC18-E3091515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966C-5A5D-47B8-A948-75773185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0193-2624-4B3C-9916-10650DD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6CE3-3D00-4FDA-B6DF-9CB1B58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8F64-DB32-423B-80E7-AB971C5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82B3-F585-4FD5-A12A-5200B4A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F671-9E09-412F-9754-71418506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7476-B100-46A2-9B99-6F1A7FEA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AEC78-83F7-4B88-94D1-89E043F3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CE2-8151-4CDB-B380-AAA0F414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C7464-0F8C-447F-9A9E-D4AC3FC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805B5-40A1-466A-AD5C-501A7A4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FEB30-E3FD-4F48-AC6E-9ED4F2F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CC0A2-E3A0-4826-8B13-559ADDB2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CB4D2-A5BD-47BF-843C-ED8E668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1495F-63D3-4FD5-92F1-0964E3D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BFB3F-2B90-4A76-9D86-04A9F14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C7FFB-FA50-4918-B525-D04F10B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58FFF-7B55-424F-A5C8-5DE2E09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8C5E8-72F0-40FF-B13A-A1A59227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ADC-B2DA-4C37-88E0-D785326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6165B-61E4-44C5-A580-204CFC4D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0A6DD-9B9D-4A87-AE69-9E55F7C7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75354-B3BB-4B15-A414-674DB724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5AEE8-B73B-44CA-B46A-4C0EE5BF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93512-ED64-4020-9FF8-2E375BE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E5727-EAC2-444F-8D36-6730FEA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3A7F8-138D-4364-9372-89B217D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AA22-04B9-422A-B2F8-A0B2F5F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24D1F-EB1E-42CD-A101-8405117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A2F3F-1EB6-40C8-988F-393B48A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7EC-1D19-4ACB-8BB8-88098D8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F0F18-2BF6-4BA8-8CB5-EE81A841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0F876-6F81-4CC7-BDF6-3A393597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4B809-729B-44EB-85C4-B84CCE40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C9FBB-159D-4C97-96C3-A30193E1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C2CDC-C490-4BA0-B4EC-4C62A5F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62715-742E-428D-99A9-FADFD8C0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90A57-1736-4B4B-A1B9-E11BC34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6E6F4-3359-480C-939C-727859B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CD49A-1BB5-4D36-95B8-3A75AA4F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84A4E-0446-4C12-82C4-451D930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6CA-6C50-4334-BB0D-22F530C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29374-092C-48CB-8CFA-E7D1807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2505B-CB93-4DD1-93AD-B56AABF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4BC6E-9341-4372-90E7-9A09B7B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24995-021B-4ADD-9EF7-C0884EB0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3846A-4D2E-4FF3-B37C-5907A83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175-6834-49C6-833F-DDA2429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232-7160-4E1D-9F49-0C98FDF16D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6ECB-41B2-47B2-B956-7CFBF22E23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768D-3E4F-4BDC-80A2-D856CB89A8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480E-103D-4E20-9894-9304A37C0E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D1D-524B-4D0A-BF0F-5F08FF3C10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6FC-9603-4E3B-9B05-CA4218746B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8CB-DCD3-4B4A-817E-A2E6A7EDEE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PTER 8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fine metabolis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ist 3 forms of energ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does the energy available for nearly all living things on earth come fro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losed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ystem, such as liquid in a thermos, is isolated from its surround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n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ystem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nergy and matter can be transferred between the system and its surround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Organisms are open syst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e8637"/>
                </a:solidFill>
                <a:uFillTx/>
                <a:latin typeface="Century Schoolbook"/>
              </a:rPr>
              <a:t>THERMODYNAMIC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IS THE STUDY OF ENERGY TRANSFORMATIONS THAT OCCUR IN NATUR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8637"/>
                </a:solidFill>
                <a:latin typeface="Century Schoolbook"/>
              </a:rPr>
              <a:t>THE FIRST LAW OF THERMODYNAM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944640"/>
            <a:ext cx="81532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energy of the universe is consta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 transferred and transform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 created or destroy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so called the principle of </a:t>
            </a:r>
            <a:r>
              <a:rPr b="1" lang="en-US" sz="2800" spc="-1" strike="noStrike">
                <a:solidFill>
                  <a:srgbClr val="0070c0"/>
                </a:solidFill>
                <a:latin typeface="Century Schoolbook"/>
              </a:rPr>
              <a:t>Conservation of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08_03aThermodynamicsLaw-L.jpg"/>
          <p:cNvPicPr/>
          <p:nvPr/>
        </p:nvPicPr>
        <p:blipFill>
          <a:blip r:embed="rId1"/>
          <a:stretch/>
        </p:blipFill>
        <p:spPr>
          <a:xfrm>
            <a:off x="2819520" y="3733920"/>
            <a:ext cx="3124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8637"/>
                </a:solidFill>
                <a:latin typeface="Century Schoolbook"/>
              </a:rPr>
              <a:t>THE SECOND LAW OF THERMODYNAM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240" y="94464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very energy transfer or transformation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increases the entropy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disorder) of the unive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uring every energy transfer or transformation, some energy is </a:t>
            </a:r>
            <a:r>
              <a:rPr b="0" i="1" lang="en-US" sz="2800" spc="-1" strike="noStrike">
                <a:solidFill>
                  <a:srgbClr val="ff0000"/>
                </a:solidFill>
                <a:latin typeface="Century Schoolbook"/>
              </a:rPr>
              <a:t>unusabl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often lost a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3" descr="08_03bThermodynamicsLaw-L.jpg"/>
          <p:cNvPicPr/>
          <p:nvPr/>
        </p:nvPicPr>
        <p:blipFill>
          <a:blip r:embed="rId1"/>
          <a:stretch/>
        </p:blipFill>
        <p:spPr>
          <a:xfrm>
            <a:off x="1600200" y="3581280"/>
            <a:ext cx="56451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Free energ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art of a system’s energy available to perform wor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= change in fre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Exergonic reac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nergy is relea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ontaneous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&lt; 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Endergonic reac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nergy i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orb fre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&gt; 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08_06aExergonicEndergonic-L.jpg"/>
          <p:cNvPicPr/>
          <p:nvPr/>
        </p:nvPicPr>
        <p:blipFill>
          <a:blip r:embed="rId1"/>
          <a:stretch/>
        </p:blipFill>
        <p:spPr>
          <a:xfrm>
            <a:off x="298440" y="530280"/>
            <a:ext cx="85471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08_06bExergonicEndergonic-L.jpg"/>
          <p:cNvPicPr/>
          <p:nvPr/>
        </p:nvPicPr>
        <p:blipFill>
          <a:blip r:embed="rId1"/>
          <a:stretch/>
        </p:blipFill>
        <p:spPr>
          <a:xfrm>
            <a:off x="298440" y="530280"/>
            <a:ext cx="85471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ell does three main kinds of work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ells manage energy resources to do work by 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energy coupling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using an 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process to drive an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800" spc="-1" strike="noStrike">
                <a:solidFill>
                  <a:srgbClr val="0070c0"/>
                </a:solidFill>
                <a:latin typeface="Century Schoolbook"/>
              </a:rPr>
              <a:t>adenosine triphosphat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is the cell’s main energy source in energy coup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P = adenine + ribose + 3 phosph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7" descr="08_08aATPStructHydrolys-L.jpg"/>
          <p:cNvPicPr/>
          <p:nvPr/>
        </p:nvPicPr>
        <p:blipFill>
          <a:blip r:embed="rId1"/>
          <a:stretch/>
        </p:blipFill>
        <p:spPr>
          <a:xfrm>
            <a:off x="685800" y="2387520"/>
            <a:ext cx="73677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n the bonds between the phosphate groups are broken by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hydroly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energy is relea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release of energy comes from th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hemical change to a state of lower free energy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t in the phosphate bonds themselv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3" descr="08_08bATPStructHydrolys-L.jpg"/>
          <p:cNvPicPr/>
          <p:nvPr/>
        </p:nvPicPr>
        <p:blipFill>
          <a:blip r:embed="rId1"/>
          <a:stretch/>
        </p:blipFill>
        <p:spPr>
          <a:xfrm>
            <a:off x="1752480" y="2819520"/>
            <a:ext cx="5023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HOW ATP PERFORMS WORK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elease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used to do the </a:t>
            </a:r>
            <a:r>
              <a:rPr b="1" i="1" lang="en-US" sz="2800" spc="-1" strike="noStrike">
                <a:solidFill>
                  <a:srgbClr val="0070c0"/>
                </a:solidFill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ork of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n ATP is hydrolyzed, it becomes ADP (adenosine diphosph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1" descr="08_11ATPCycle-L.jpg"/>
          <p:cNvPicPr/>
          <p:nvPr/>
        </p:nvPicPr>
        <p:blipFill>
          <a:blip r:embed="rId1"/>
          <a:stretch/>
        </p:blipFill>
        <p:spPr>
          <a:xfrm>
            <a:off x="304920" y="2895480"/>
            <a:ext cx="840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. 8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laws of thermodynamic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 the definition and an example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700"/>
              </a:spcBef>
              <a:buClr>
                <a:srgbClr val="fe8637"/>
              </a:buClr>
              <a:buSzPct val="8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tabolic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700"/>
              </a:spcBef>
              <a:buClr>
                <a:srgbClr val="fe8637"/>
              </a:buClr>
              <a:buSzPct val="8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abolic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the breakdown of glucose in cellular respir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406520" y="227160"/>
            <a:ext cx="6329520" cy="64022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5248440" y="4753080"/>
            <a:ext cx="35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NH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253120" y="5164200"/>
            <a:ext cx="33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G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006960" y="7524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126120" y="825480"/>
            <a:ext cx="1573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878440" y="49752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5997600" y="5048280"/>
            <a:ext cx="15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083280" y="33336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202440" y="3406680"/>
            <a:ext cx="15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469280" y="3078000"/>
            <a:ext cx="191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588080" y="3151080"/>
            <a:ext cx="1573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3327480" y="5033880"/>
            <a:ext cx="33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G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3960720" y="4948200"/>
            <a:ext cx="355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NH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3397320" y="4600440"/>
            <a:ext cx="191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4019400" y="333684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3786120" y="955800"/>
            <a:ext cx="1126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738440" y="2894040"/>
            <a:ext cx="330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AT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7364520" y="2716200"/>
            <a:ext cx="330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AD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3294000" y="1630440"/>
            <a:ext cx="1006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oto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2754360" y="1887480"/>
            <a:ext cx="2228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echanical work: ATP phosphorylates moto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075280" y="1627200"/>
            <a:ext cx="11174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tein 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2436840" y="2335320"/>
            <a:ext cx="799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3192480" y="3633840"/>
            <a:ext cx="584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2754360" y="3925800"/>
            <a:ext cx="4076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Transport work: ATP phosphorylates transport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4989600" y="3627360"/>
            <a:ext cx="1396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Solute trans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2751120" y="6012000"/>
            <a:ext cx="40924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Chemical work: ATP phosphorylates key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2806560" y="5602320"/>
            <a:ext cx="1854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Reactants: Gluta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0"/>
          <p:cNvSpPr/>
          <p:nvPr/>
        </p:nvSpPr>
        <p:spPr>
          <a:xfrm>
            <a:off x="4889520" y="5602320"/>
            <a:ext cx="1432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duct (gluta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1"/>
          <p:cNvSpPr/>
          <p:nvPr/>
        </p:nvSpPr>
        <p:spPr>
          <a:xfrm>
            <a:off x="3489480" y="1200240"/>
            <a:ext cx="2664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2"/>
          <p:cNvSpPr/>
          <p:nvPr/>
        </p:nvSpPr>
        <p:spPr>
          <a:xfrm>
            <a:off x="2975040" y="2625840"/>
            <a:ext cx="654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3"/>
          <p:cNvSpPr/>
          <p:nvPr/>
        </p:nvSpPr>
        <p:spPr>
          <a:xfrm flipV="1">
            <a:off x="3683160" y="3498480"/>
            <a:ext cx="7920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3720960" y="4998960"/>
            <a:ext cx="1033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5648400" y="4992840"/>
            <a:ext cx="10296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7472520" y="2906640"/>
            <a:ext cx="1029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atalys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ubstance that can change the rate of a reaction without being altered in the proc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biological cataly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eds up metabolic reactions by lowering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ctivation energ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nergy needed to start reac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5" descr="08_UN02SucroseHydrolyzed-L.jpg"/>
          <p:cNvPicPr/>
          <p:nvPr/>
        </p:nvPicPr>
        <p:blipFill>
          <a:blip r:embed="rId1"/>
          <a:stretch/>
        </p:blipFill>
        <p:spPr>
          <a:xfrm>
            <a:off x="291960" y="2773440"/>
            <a:ext cx="85471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08_13EnzymeActivation-L.jpg"/>
          <p:cNvPicPr/>
          <p:nvPr/>
        </p:nvPicPr>
        <p:blipFill>
          <a:blip r:embed="rId1"/>
          <a:stretch/>
        </p:blipFill>
        <p:spPr>
          <a:xfrm>
            <a:off x="228600" y="457200"/>
            <a:ext cx="8547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8637"/>
                </a:solidFill>
                <a:latin typeface="Century Schoolbook"/>
              </a:rPr>
              <a:t>SUBSTRATE SPECIFICITY OF ENZYM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715680"/>
            <a:ext cx="8534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reactant that an enzyme acts on is called the enzyme’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ubstrat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enzyme binds to its substrate, forming an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nzyme-substrate complex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ctive sit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the region on the enzyme where the substrate bi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http://leavingbio.net/ENZYMES_files/image010.gif"/>
          <p:cNvPicPr/>
          <p:nvPr/>
        </p:nvPicPr>
        <p:blipFill>
          <a:blip r:embed="rId1"/>
          <a:stretch/>
        </p:blipFill>
        <p:spPr>
          <a:xfrm>
            <a:off x="2514600" y="3632040"/>
            <a:ext cx="4495680" cy="299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08_15CatalyticCycle_1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08_15CatalyticCycle_2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08_15CatalyticCycle_3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08_14InducedFit-L.jpg"/>
          <p:cNvPicPr/>
          <p:nvPr/>
        </p:nvPicPr>
        <p:blipFill>
          <a:blip r:embed="rId1"/>
          <a:stretch/>
        </p:blipFill>
        <p:spPr>
          <a:xfrm>
            <a:off x="380880" y="1905120"/>
            <a:ext cx="8547120" cy="46638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INDUCED FIT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: ENZYME FITS SNUGLY AROUND SUBSTRATE -- </a:t>
            </a:r>
            <a:r>
              <a:rPr b="0" lang="ja-JP" sz="24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CLASPING HANDSHAKE</a:t>
            </a:r>
            <a:r>
              <a:rPr b="0" lang="ja-JP" sz="24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28240" y="609480"/>
            <a:ext cx="3352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 enzyme’s activity can be affected b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Content Placeholder 29" descr="08_16_EnzymeEnviroFactor-L.jpg"/>
          <p:cNvPicPr/>
          <p:nvPr/>
        </p:nvPicPr>
        <p:blipFill>
          <a:blip r:embed="rId1"/>
          <a:stretch/>
        </p:blipFill>
        <p:spPr>
          <a:xfrm>
            <a:off x="3581280" y="457200"/>
            <a:ext cx="5178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8637"/>
                </a:solidFill>
                <a:latin typeface="Century Schoolbook"/>
              </a:rPr>
              <a:t>COFACTOR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factor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nonprotein enzym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lpers such as minerals (eg. Zn, Fe, Cu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enzy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organic cofactors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g. vitamin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8637"/>
                </a:solidFill>
                <a:latin typeface="Century Schoolbook"/>
              </a:rPr>
              <a:t>Enzyme Inhibi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mpetitive inhibitor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nds to the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active site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n enzyme, competes with substr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Noncompetitive inhibitor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nds to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another part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n enzy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nzyme changes shap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ctive site is 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nonfunction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8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37124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raw and label the following: enzyme, active site, substra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cribe what is meant by the term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induced f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types of factors can affect an enzyme’s functi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INHIBITION OF ENZYME ACTIVIT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8" name="Content Placeholder 3" descr="08_17EnzymeInhibition-L.jpg"/>
          <p:cNvPicPr/>
          <p:nvPr/>
        </p:nvPicPr>
        <p:blipFill>
          <a:blip r:embed="rId1"/>
          <a:stretch/>
        </p:blipFill>
        <p:spPr>
          <a:xfrm>
            <a:off x="380880" y="1676520"/>
            <a:ext cx="8502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REGULATION OF ENZYME ACTIVIT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regulate metabolic pathways, the cell switches on/off the genes that encode specific enzy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llosteric regul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rotein’s function at one site is affected by binding of a </a:t>
            </a:r>
            <a:r>
              <a:rPr b="1" lang="en-US" sz="2800" spc="-1" strike="noStrike">
                <a:solidFill>
                  <a:srgbClr val="fe8637"/>
                </a:solidFill>
                <a:latin typeface="Century Schoolbook"/>
              </a:rPr>
              <a:t>regulatory molecul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a separate site (allosteric si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Activat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stabilizes active si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Inhibit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stabiliz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nactiv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Cooperativit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one substrate triggers shape change in other active sit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crease catalytic activ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Content Placeholder 6" descr="08_19aAllostericReg-L.jpg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Content Placeholder 3" descr="08_19bAllostericReg-L.jpg"/>
          <p:cNvPicPr/>
          <p:nvPr/>
        </p:nvPicPr>
        <p:blipFill>
          <a:blip r:embed="rId1"/>
          <a:stretch/>
        </p:blipFill>
        <p:spPr>
          <a:xfrm>
            <a:off x="762120" y="1143000"/>
            <a:ext cx="74674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8637"/>
                </a:solidFill>
                <a:latin typeface="Century Schoolbook"/>
              </a:rPr>
              <a:t>FEEDBACK INHIBI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d product of a metabolic pathway shuts down pathway by binding to the allosteric site of an enzy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event wasting chemical resources, increase efficiency of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Content Placeholder 3" descr="08_21FeedbackInhibition-L.jpg"/>
          <p:cNvPicPr/>
          <p:nvPr/>
        </p:nvPicPr>
        <p:blipFill>
          <a:blip r:embed="rId1"/>
          <a:stretch/>
        </p:blipFill>
        <p:spPr>
          <a:xfrm>
            <a:off x="2646360" y="228600"/>
            <a:ext cx="6192720" cy="6473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FEEDBACK INHIBI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An Introduction to Metabolis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08_01FireflySquid-L.jpg"/>
          <p:cNvPicPr/>
          <p:nvPr/>
        </p:nvPicPr>
        <p:blipFill>
          <a:blip r:embed="rId1"/>
          <a:stretch/>
        </p:blipFill>
        <p:spPr>
          <a:xfrm>
            <a:off x="3657600" y="533520"/>
            <a:ext cx="4757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WHAT YOU NEED TO KNOW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560" y="15238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mples of endergonic and exergonic reactio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key role of ATP in energy coupl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at enzymes work by lowering the energy of activ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catalytic cycle of an enzyme that results in the production of a final produc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factors that influence enzyme activit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Metabolis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the totality of an organism’s chemical rea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nage the materials and energy resources of a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08_UN01MetabolicPathway-L.jpg"/>
          <p:cNvPicPr/>
          <p:nvPr/>
        </p:nvPicPr>
        <p:blipFill>
          <a:blip r:embed="rId1"/>
          <a:stretch/>
        </p:blipFill>
        <p:spPr>
          <a:xfrm>
            <a:off x="304920" y="533520"/>
            <a:ext cx="854712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atabolic pathways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lease energy by breaking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digestive enzymes break down foo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eleas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nabolic pathway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sume energy to build complex molecules from simpler 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amino acids link to form muscle prote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ENERGY = CAPACITY TO DO WORK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6240"/>
            <a:ext cx="8001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e8637"/>
                </a:solidFill>
                <a:uFillTx/>
                <a:latin typeface="Century Schoolbook"/>
              </a:rPr>
              <a:t>Kinetic energy (KE)</a:t>
            </a:r>
            <a:r>
              <a:rPr b="0" lang="en-US" sz="2600" spc="-1" strike="noStrike">
                <a:solidFill>
                  <a:srgbClr val="fe8637"/>
                </a:solidFill>
                <a:latin typeface="Century Schoolbook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ergy associated with mo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entury Schoolbook"/>
              </a:rPr>
              <a:t>Heat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(thermal energy) is KE associated with random movement of atoms or molecul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e8637"/>
                </a:solidFill>
                <a:uFillTx/>
                <a:latin typeface="Century Schoolbook"/>
              </a:rPr>
              <a:t>Potential energy (PE)</a:t>
            </a:r>
            <a:r>
              <a:rPr b="0" lang="en-US" sz="2600" spc="-1" strike="noStrike">
                <a:solidFill>
                  <a:srgbClr val="fe8637"/>
                </a:solidFill>
                <a:latin typeface="Century Schoolbook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ored energy as a result of its position or structur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entury Schoolbook"/>
              </a:rPr>
              <a:t>Chemical energy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s PE available for release in a chemical rea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ergy can b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rom one form to another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g. chemic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mechanic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electrica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ontent Placeholder 3" descr="08_02EnergyTransformat-L.jpg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2:21:54Z</dcterms:created>
  <dc:creator>Jackie</dc:creator>
  <dc:description/>
  <dc:language>en-US</dc:language>
  <cp:lastModifiedBy>Chris Nancy Chou</cp:lastModifiedBy>
  <dcterms:modified xsi:type="dcterms:W3CDTF">2012-09-27T05:38:45Z</dcterms:modified>
  <cp:revision>40</cp:revision>
  <dc:subject/>
  <dc:title>Chapter 8</dc:title>
</cp:coreProperties>
</file>